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76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464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7640" y="949464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B5F09-238E-426C-8C1A-E5B3BF8D1021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C406C-57BC-4156-B379-4252A4E22F33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egnaposto intestazione 5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05E76-1747-4715-BD8B-F6A780F8531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D263E-0632-4F4D-8149-F95EF27974FB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C0C80-5488-4CCA-BEC2-0142245B976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1D4F2-552D-42CD-BF99-EB0D375B235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348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intestazione 3"/>
          <p:cNvSpPr/>
          <p:nvPr/>
        </p:nvSpPr>
        <p:spPr>
          <a:xfrm>
            <a:off x="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Vallombrosa - May 11 - 15,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numero diapositiva 4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EA072-F7F7-4D55-8EC3-0A844D99ADF1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277-D9DE-40F9-810C-8534BA00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29A-480E-4895-A0A5-7951EEAC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53E-3D1E-4461-8E20-0389A917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610-84FD-4CE3-9EE6-26CA1AE7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D05-11FE-4ADE-AA88-E85AB0B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6C2-2CF6-4429-931D-D885993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985-5EEF-4E84-B850-27768030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067-6147-466F-8CAB-516ED29C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579-754F-4FF2-853F-1A0DF2B4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4DB-C619-4B3E-8A07-F7FC5DA8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4FC-3335-4592-92F9-DB23A629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DD1-0D71-4FC7-8DC4-FF6C89E0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FD450-7B0A-45E1-85A2-B0C5921BDD4C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25F8F-BC77-489A-9A9F-A38E22310C7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nrico.marchi@unifi.i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3"/>
          <p:cNvSpPr/>
          <p:nvPr/>
        </p:nvSpPr>
        <p:spPr>
          <a:xfrm>
            <a:off x="5380200" y="5051520"/>
            <a:ext cx="31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nrico Marc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University of Florence - Ita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nrico.marchi@unifi.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asellaDiTesto 9"/>
          <p:cNvSpPr/>
          <p:nvPr/>
        </p:nvSpPr>
        <p:spPr>
          <a:xfrm>
            <a:off x="1546200" y="1284120"/>
            <a:ext cx="7034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376092"/>
                </a:solidFill>
                <a:latin typeface="Calibri"/>
              </a:rPr>
              <a:t>MEF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Mediterranean Fo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Fire Fighting Training Standardis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GA No. </a:t>
            </a:r>
            <a:r>
              <a:rPr b="1" lang="en-GB" sz="2400" spc="-1" strike="noStrike">
                <a:solidFill>
                  <a:srgbClr val="376092"/>
                </a:solidFill>
                <a:latin typeface="Calibri"/>
              </a:rPr>
              <a:t>ECHO/SUB/2016/742556/PREP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4343400" y="6313320"/>
            <a:ext cx="420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Kick-off meeting, Brussels, 18-1-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8800" y="57744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7. Tentative dates and places for Major Ev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93B00-AE82-42A6-84EE-1FD0ED806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Table 8" descr=""/>
          <p:cNvPicPr/>
          <p:nvPr/>
        </p:nvPicPr>
        <p:blipFill>
          <a:blip r:embed="rId2"/>
          <a:stretch/>
        </p:blipFill>
        <p:spPr>
          <a:xfrm>
            <a:off x="1109520" y="2597040"/>
            <a:ext cx="7296120" cy="34020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0800" y="7174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8. Sustainability - Contin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90560" y="19681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FIST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ject aims to be the starting point for a join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uropean standardisation in forest fire figh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figur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uropean Forest Fire Operato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F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wor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ween forest fire fighting training centers (transnational collabor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organizati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UFOFIS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EUropean FOrest FIre fighting Skills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FOFISC will continue its activity after the end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5081F-27B9-467D-B1BB-B295F6912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58EA1-85C3-42C7-BF6D-BE8D7685850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719280" y="192420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Thanks for your attentio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sellaDiTesto 13"/>
          <p:cNvSpPr/>
          <p:nvPr/>
        </p:nvSpPr>
        <p:spPr>
          <a:xfrm>
            <a:off x="3125160" y="4405320"/>
            <a:ext cx="31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nrico Marc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University of Florence - Ita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nrico.marchi@unifi.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19280" y="1270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it-IT" sz="3200" spc="-1" strike="noStrike">
                <a:solidFill>
                  <a:srgbClr val="376092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762120" y="1746360"/>
            <a:ext cx="79675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nfo 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rdinator and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dead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tative dates and places for Major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stainability - Contin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674640" y="93816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1. Project Info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814320" y="1870200"/>
            <a:ext cx="79502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ctivity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Prepared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uration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ting date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15-1-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eligible c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€ </a:t>
            </a:r>
            <a:r>
              <a:rPr b="1" lang="it-IT" sz="2400" spc="-1" strike="noStrike">
                <a:solidFill>
                  <a:srgbClr val="376092"/>
                </a:solidFill>
                <a:latin typeface="Calibri"/>
                <a:ea typeface="Calibri"/>
              </a:rPr>
              <a:t>434.3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C contrib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€ 325.7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nancing 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  <a:ea typeface="Calibri"/>
              </a:rPr>
              <a:t>75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787320" y="69840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Coordinator and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ubtitle 2"/>
          <p:cNvSpPr/>
          <p:nvPr/>
        </p:nvSpPr>
        <p:spPr>
          <a:xfrm>
            <a:off x="1160640" y="1351080"/>
            <a:ext cx="774360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iversità degli Studi di Firenz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ipartimento di Gestione delle risorse Agrarie, Alimentari e Forestali 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ta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ww.gesaaf.unifi.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Wide experience in silvicultural management of forest fuel, forest fire prevention, health and safety in forest firefighting, as well as in forest operator and forest firefighter train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BE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B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scola Nacional de Bombeiro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rtuga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http://www.enb.p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A recognized expertise in forest fire prevention, suppression and training activ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BE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SE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o de Servicios y Promoción Forestal y de su Industria de Castilla y Leó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p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www.cesefor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Strong experience in international cooperation for projects related to forests and forest fi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BE3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ENT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ntente pour la Forêt Méditerranéenn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France, http://www.entente-valabre.com.  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A recognized expertise in forest fire prevention, suppression and training activit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BE4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T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Regione Toscan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taly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http://www.regione.toscana.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A recognized expertise in forest fire prevention, suppression and training activ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uppo 1"/>
          <p:cNvGrpSpPr/>
          <p:nvPr/>
        </p:nvGrpSpPr>
        <p:grpSpPr>
          <a:xfrm>
            <a:off x="150840" y="4268880"/>
            <a:ext cx="919080" cy="393480"/>
            <a:chOff x="150840" y="4268880"/>
            <a:chExt cx="919080" cy="393480"/>
          </a:xfrm>
        </p:grpSpPr>
        <p:sp>
          <p:nvSpPr>
            <p:cNvPr id="61" name="Rectangle 2"/>
            <p:cNvSpPr/>
            <p:nvPr/>
          </p:nvSpPr>
          <p:spPr>
            <a:xfrm>
              <a:off x="150840" y="4268880"/>
              <a:ext cx="919080" cy="3934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Picture 6" descr="Inicio"/>
            <p:cNvPicPr/>
            <p:nvPr/>
          </p:nvPicPr>
          <p:blipFill>
            <a:blip r:embed="rId2"/>
            <a:stretch/>
          </p:blipFill>
          <p:spPr>
            <a:xfrm>
              <a:off x="208800" y="4268880"/>
              <a:ext cx="802800" cy="333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2" descr="C:\Users\Patias\Desktop\head.tif"/>
          <p:cNvPicPr/>
          <p:nvPr/>
        </p:nvPicPr>
        <p:blipFill>
          <a:blip r:embed="rId3"/>
          <a:stretch/>
        </p:blipFill>
        <p:spPr>
          <a:xfrm>
            <a:off x="187200" y="1822320"/>
            <a:ext cx="851040" cy="75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logotipo-enb"/>
          <p:cNvPicPr/>
          <p:nvPr/>
        </p:nvPicPr>
        <p:blipFill>
          <a:blip r:embed="rId4"/>
          <a:srcRect l="0" t="0" r="74114" b="2536"/>
          <a:stretch/>
        </p:blipFill>
        <p:spPr>
          <a:xfrm>
            <a:off x="217440" y="3268800"/>
            <a:ext cx="782640" cy="63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Logo Entente ECASC"/>
          <p:cNvPicPr/>
          <p:nvPr/>
        </p:nvPicPr>
        <p:blipFill>
          <a:blip r:embed="rId5"/>
          <a:stretch/>
        </p:blipFill>
        <p:spPr>
          <a:xfrm>
            <a:off x="120600" y="5173560"/>
            <a:ext cx="978120" cy="65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Regione Toscana"/>
          <p:cNvPicPr/>
          <p:nvPr/>
        </p:nvPicPr>
        <p:blipFill>
          <a:blip r:embed="rId6"/>
          <a:srcRect l="0" t="0" r="61627" b="0"/>
          <a:stretch/>
        </p:blipFill>
        <p:spPr>
          <a:xfrm>
            <a:off x="252360" y="6093000"/>
            <a:ext cx="671400" cy="6793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2"/>
          <p:cNvSpPr/>
          <p:nvPr/>
        </p:nvSpPr>
        <p:spPr>
          <a:xfrm>
            <a:off x="122400" y="2884320"/>
            <a:ext cx="889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asellaDiTesto 3"/>
          <p:cNvSpPr/>
          <p:nvPr/>
        </p:nvSpPr>
        <p:spPr>
          <a:xfrm>
            <a:off x="1160640" y="127332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Coordinato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nettore 1 15"/>
          <p:cNvSpPr/>
          <p:nvPr/>
        </p:nvSpPr>
        <p:spPr>
          <a:xfrm>
            <a:off x="120600" y="4038480"/>
            <a:ext cx="889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nettore 1 16"/>
          <p:cNvSpPr/>
          <p:nvPr/>
        </p:nvSpPr>
        <p:spPr>
          <a:xfrm>
            <a:off x="120600" y="5051520"/>
            <a:ext cx="889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ttore 1 17"/>
          <p:cNvSpPr/>
          <p:nvPr/>
        </p:nvSpPr>
        <p:spPr>
          <a:xfrm>
            <a:off x="120600" y="6039000"/>
            <a:ext cx="8894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asellaDiTesto 4"/>
          <p:cNvSpPr/>
          <p:nvPr/>
        </p:nvSpPr>
        <p:spPr>
          <a:xfrm>
            <a:off x="1160640" y="289548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Partn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4640" y="717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376092"/>
                </a:solidFill>
                <a:latin typeface="Calibri"/>
              </a:rPr>
              <a:t>3. Motiv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74640" y="1255320"/>
            <a:ext cx="822960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orest fir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civi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ction events that yearly affect several EU countries - Mediterranean are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laboration among the member St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ccasion of severe fire seasons and EU exercises on forest fire fighting were organized (e.g. Sardinia 2008, Prometheus 2014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s of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ordination and collaboration improve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orest fire response capacity at EU level.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mon and shared basis for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orest fire fighting are required in order to increase EU preparedness le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FISTO projec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ms to raise preparedness level through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icient and standardized training protoco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ed by a representative network of Mediterranean stakeholder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ew opportunities regard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operabi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Mediterranean training centres - establishing training programmes - sessions on the organization, protocols and procedures applied in the neighbouring countries - improv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ness on cross-border fire f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B862F-DE34-4790-9AFC-5D6D1A3AF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4480" y="8254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</a:rPr>
              <a:t>4.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74640" y="1896840"/>
            <a:ext cx="8367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detail the ma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the project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hare knowledg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strategies, tactics and methods applied in each of the Mediterranean Countries involved in the project - future involvement of other EU countr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include in the training programs specific sessions on the organization, protocols and procedures applied in the neighbouring countries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rove the effectiveness on crossborder fire figh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evelop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ndardised and common terminolog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improve the communication efficacy in join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re fighting oper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efin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ndardised operational training skil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Forest Fire Operat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AutoNum type="roman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ment of an organiz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representatives and agencies of different countri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manage and monitor the skills and competence certification methods and processes; define and maintain agreed minimum standards of skills and abilities in forest fire fighting training, applied in all European countries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E063B-DEAF-485D-9468-A71350504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560" y="68868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5. Expected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74640" y="144936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ain expected results will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dac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uidelines and repor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organization, strategies and methods applied in each Country. These documents will contain the main elements to be included in the training session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dressed to international cooper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fini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ndards in fire-fighting train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which can be applied in all partners Countr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ndards for European supranational qualifications of European Forest Fire Operat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FoF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 of an European organization (Network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the aims of develop and guarantee the international standard assessment of FoFO skill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of an international pilot training cour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ncluding test of the skills assessmen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E8E2A-88BB-478F-9B66-E213464B9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547560"/>
            <a:ext cx="83962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6. Deliverables and deadlines/1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2FCF4-A5E5-4440-8A98-945776312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38040" y="1211400"/>
          <a:ext cx="8566200" cy="5248080"/>
        </p:xfrm>
        <a:graphic>
          <a:graphicData uri="http://schemas.openxmlformats.org/drawingml/2006/table">
            <a:tbl>
              <a:tblPr/>
              <a:tblGrid>
                <a:gridCol w="1077840"/>
                <a:gridCol w="6377040"/>
                <a:gridCol w="1111320"/>
              </a:tblGrid>
              <a:tr h="3189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ables Li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adline (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on and Project Management (M0 - M2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2347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A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utes of kick-off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A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 Agre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A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utes of Opening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1-R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ess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6-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1-FR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6-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P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project repor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terranean Forest Fire Fighting: State of the Art (M1 - M1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81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B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report: national procedures and organisation in forest fire figh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B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elines redaction: Similiraties and differences between EU Mediterranean Countries in Forest Fire Fighting: a challenge for improvement"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wards European procedures for Forest Fire Fighting: developing common terminology and good practices sharing and agreement (M6 - M1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888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C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st Fires multilingual gloss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C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 of the technical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C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opean procedure for forest fire figh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70670-B10D-421C-9692-60E8C3443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4703760" y="154080"/>
            <a:ext cx="420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ick-off meeting, Brussels, 18-1-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547200"/>
            <a:ext cx="83962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6. Deliverables and deadlines/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79520" y="1287360"/>
          <a:ext cx="8424720" cy="5402520"/>
        </p:xfrm>
        <a:graphic>
          <a:graphicData uri="http://schemas.openxmlformats.org/drawingml/2006/table">
            <a:tbl>
              <a:tblPr/>
              <a:tblGrid>
                <a:gridCol w="925560"/>
                <a:gridCol w="6486480"/>
                <a:gridCol w="1012680"/>
              </a:tblGrid>
              <a:tr h="51768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creation and procedures implementation for transanational cooperation (M6 - M2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585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D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ment of the "European Forest fire fighting skills counc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D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 of rights and duties between Countries aimed at efficient cross-border collabor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D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 on the pilot exercise on cross-border forest fires (practical meetin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program standardisation and implementation (M10 - M1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603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E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and shared list of training progra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E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ised scoresheets for the evaluation and the awarding of the European Forest Fire Operators (FoFOs) after training cour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E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 of the pilot training, with the designation of the firsts FoFOs (three for each Partner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 and dissemination (M0 - M2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352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F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 creation, maintenance and continuous upd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/ 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F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tion of project resul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F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aration and dispatching of Leyman's report to the Civil Protection Authorities of all EU Count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_F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marL="174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 on dissemination activit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21:12Z</dcterms:created>
  <dc:creator>susanna</dc:creator>
  <dc:description/>
  <dc:language>en-US</dc:language>
  <cp:lastModifiedBy>Riccardo Castellini</cp:lastModifiedBy>
  <cp:lastPrinted>2016-10-21T19:33:34Z</cp:lastPrinted>
  <dcterms:modified xsi:type="dcterms:W3CDTF">2017-02-22T10:43:38Z</dcterms:modified>
  <cp:revision>523</cp:revision>
  <dc:subject/>
  <dc:title>Presentazione di PowerPoint</dc:title>
</cp:coreProperties>
</file>