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76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764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4826F-86F9-4AF4-ACC5-789D2B95BD8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15EC8-6102-4CD4-8BFA-2C83D72FF12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intestazione 5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B0EA7-8FCC-4D01-8CA4-25D5DA69D0B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52D91-A712-41E0-B218-611594D59D0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980AD-CFC8-4F35-89B3-4073EF5BB3A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909A0-275A-4DF8-865B-CC055EDE22C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70BCE-1A80-4116-8771-051E3C05B68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51C-3861-494C-9704-7A58E208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F4C-FBB5-4B02-BEB3-999D5BC5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257-554B-4053-9236-B20548D8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E6A-4D89-4655-8007-748E868C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CD0-46DA-416F-9052-9C20257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302-CC73-4899-9CD3-3FA5559E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C82-84B4-4C1F-A49F-97484A5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CC4-AF40-481A-BDE9-4AEBED6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1AF-9FA8-4DDE-9868-B74F15BE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EED-7370-48D3-938C-221177F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47E-16F1-499D-9F89-7971238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C0F-0A61-4B4C-85BE-187EFF3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FA490-89B4-460E-95B4-AD546B1F22E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628E5-9FE0-4D38-B708-5767BD858CF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nrico.marchi@unifi.i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3"/>
          <p:cNvSpPr/>
          <p:nvPr/>
        </p:nvSpPr>
        <p:spPr>
          <a:xfrm>
            <a:off x="5380200" y="5051520"/>
            <a:ext cx="31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 Mar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University of Florence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nrico.marchi@unifi.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asellaDiTesto 9"/>
          <p:cNvSpPr/>
          <p:nvPr/>
        </p:nvSpPr>
        <p:spPr>
          <a:xfrm>
            <a:off x="1546200" y="1284120"/>
            <a:ext cx="7034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376092"/>
                </a:solidFill>
                <a:latin typeface="Calibri"/>
              </a:rPr>
              <a:t>MEF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Mediterranean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Fire Fighting Training Standardis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A No. </a:t>
            </a:r>
            <a:r>
              <a:rPr b="1" lang="en-GB" sz="2400" spc="-1" strike="noStrike">
                <a:solidFill>
                  <a:srgbClr val="376092"/>
                </a:solidFill>
                <a:latin typeface="Calibri"/>
              </a:rPr>
              <a:t>ECHO/SUB/2016/742556/PREP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4343400" y="6313320"/>
            <a:ext cx="420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Kick-off meeting, Brussels, 18-1-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800" y="57744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7. Tentative dates and places for Major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D2F9E-A44B-4ED7-914D-2B5ADA52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Table 8" descr=""/>
          <p:cNvPicPr/>
          <p:nvPr/>
        </p:nvPicPr>
        <p:blipFill>
          <a:blip r:embed="rId2"/>
          <a:stretch/>
        </p:blipFill>
        <p:spPr>
          <a:xfrm>
            <a:off x="1109520" y="2597040"/>
            <a:ext cx="7296120" cy="34020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0800" y="7174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8. Sustainability - Contin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90560" y="19681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FIS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ject aims to be the starting point for a joi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ropean standardisation in forest fire figh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figur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ropean Forest Fire Operato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F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forest fire fighting training centers (transnational collabor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organizat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FOFIS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EUropean FOrest FIre fighting Skills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FOFISC will continue its activity after the end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11456-46DC-41B9-93C1-83661673F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C7180-C5C8-4B69-B57C-E26A8DC4D7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719280" y="192420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Thanks for your atten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13"/>
          <p:cNvSpPr/>
          <p:nvPr/>
        </p:nvSpPr>
        <p:spPr>
          <a:xfrm>
            <a:off x="3125160" y="4405320"/>
            <a:ext cx="31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 Mar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University of Florence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.marchi@unifi.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19280" y="1270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it-IT" sz="3200" spc="-1" strike="noStrike">
                <a:solidFill>
                  <a:srgbClr val="376092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762120" y="1746360"/>
            <a:ext cx="79675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nfo 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or and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dead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ative dates and places for Major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ability - 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674640" y="93816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1. Project Info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814320" y="1870200"/>
            <a:ext cx="79502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ctivity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Prepared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ration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ing date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15-1-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eligible c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€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  <a:ea typeface="Calibri"/>
              </a:rPr>
              <a:t>434.3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C contrib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€ 325.7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ing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75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787320" y="69840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Coordinator and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ubtitle 2"/>
          <p:cNvSpPr/>
          <p:nvPr/>
        </p:nvSpPr>
        <p:spPr>
          <a:xfrm>
            <a:off x="1160640" y="1351080"/>
            <a:ext cx="774360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iversità degli Studi di Firenz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partimento di Gestione delle risorse Agrarie, Alimentari e Forestali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ta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ww.gesaaf.unifi.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Wide experience in silvicultural management of forest fuel, forest fire prevention, health and safety in forest firefighting, as well as in forest operator and forest firefighter train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BE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scola Nacional de Bombeiro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rtuga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http://www.enb.p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E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SE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o de Servicios y Promoción Forestal y de su Industria de Castilla y Le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p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www.cesefor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Strong experience in international cooperation for projects related to forests and forest fi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BE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ENT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ntente pour la Forêt Méditerranéenn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France, http://www.entente-valabre.com. 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BE4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Regione Toscan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http://www.regione.toscana.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uppo 1"/>
          <p:cNvGrpSpPr/>
          <p:nvPr/>
        </p:nvGrpSpPr>
        <p:grpSpPr>
          <a:xfrm>
            <a:off x="150840" y="4268880"/>
            <a:ext cx="919080" cy="393480"/>
            <a:chOff x="150840" y="4268880"/>
            <a:chExt cx="919080" cy="393480"/>
          </a:xfrm>
        </p:grpSpPr>
        <p:sp>
          <p:nvSpPr>
            <p:cNvPr id="61" name="Rectangle 2"/>
            <p:cNvSpPr/>
            <p:nvPr/>
          </p:nvSpPr>
          <p:spPr>
            <a:xfrm>
              <a:off x="150840" y="4268880"/>
              <a:ext cx="919080" cy="3934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Picture 6" descr="Inicio"/>
            <p:cNvPicPr/>
            <p:nvPr/>
          </p:nvPicPr>
          <p:blipFill>
            <a:blip r:embed="rId2"/>
            <a:stretch/>
          </p:blipFill>
          <p:spPr>
            <a:xfrm>
              <a:off x="208800" y="4268880"/>
              <a:ext cx="802800" cy="33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2" descr="C:\Users\Patias\Desktop\head.tif"/>
          <p:cNvPicPr/>
          <p:nvPr/>
        </p:nvPicPr>
        <p:blipFill>
          <a:blip r:embed="rId3"/>
          <a:stretch/>
        </p:blipFill>
        <p:spPr>
          <a:xfrm>
            <a:off x="187200" y="1822320"/>
            <a:ext cx="851040" cy="75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logotipo-enb"/>
          <p:cNvPicPr/>
          <p:nvPr/>
        </p:nvPicPr>
        <p:blipFill>
          <a:blip r:embed="rId4"/>
          <a:srcRect l="0" t="0" r="74114" b="2536"/>
          <a:stretch/>
        </p:blipFill>
        <p:spPr>
          <a:xfrm>
            <a:off x="217440" y="3268800"/>
            <a:ext cx="782640" cy="63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Logo Entente ECASC"/>
          <p:cNvPicPr/>
          <p:nvPr/>
        </p:nvPicPr>
        <p:blipFill>
          <a:blip r:embed="rId5"/>
          <a:stretch/>
        </p:blipFill>
        <p:spPr>
          <a:xfrm>
            <a:off x="120600" y="5173560"/>
            <a:ext cx="978120" cy="6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Regione Toscana"/>
          <p:cNvPicPr/>
          <p:nvPr/>
        </p:nvPicPr>
        <p:blipFill>
          <a:blip r:embed="rId6"/>
          <a:srcRect l="0" t="0" r="61627" b="0"/>
          <a:stretch/>
        </p:blipFill>
        <p:spPr>
          <a:xfrm>
            <a:off x="252360" y="6093000"/>
            <a:ext cx="671400" cy="6793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2"/>
          <p:cNvSpPr/>
          <p:nvPr/>
        </p:nvSpPr>
        <p:spPr>
          <a:xfrm>
            <a:off x="122400" y="2884320"/>
            <a:ext cx="889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3"/>
          <p:cNvSpPr/>
          <p:nvPr/>
        </p:nvSpPr>
        <p:spPr>
          <a:xfrm>
            <a:off x="1160640" y="12733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Coordinat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5"/>
          <p:cNvSpPr/>
          <p:nvPr/>
        </p:nvSpPr>
        <p:spPr>
          <a:xfrm>
            <a:off x="120600" y="403848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16"/>
          <p:cNvSpPr/>
          <p:nvPr/>
        </p:nvSpPr>
        <p:spPr>
          <a:xfrm>
            <a:off x="120600" y="505152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17"/>
          <p:cNvSpPr/>
          <p:nvPr/>
        </p:nvSpPr>
        <p:spPr>
          <a:xfrm>
            <a:off x="120600" y="603900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sellaDiTesto 4"/>
          <p:cNvSpPr/>
          <p:nvPr/>
        </p:nvSpPr>
        <p:spPr>
          <a:xfrm>
            <a:off x="1160640" y="28954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Partn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640" y="717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376092"/>
                </a:solidFill>
                <a:latin typeface="Calibri"/>
              </a:rPr>
              <a:t>3. Motiv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74640" y="1255320"/>
            <a:ext cx="822960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est fir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civi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 events that yearly affect several EU countries - Mediterranean are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laboration among the member St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ccasion of severe fire seasons and EU exercises on forest fire fighting were organized (e.g. Sardinia 2008, Prometheus 201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of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ordination and collaboration improve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orest fire response capacity at EU level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mon and shared basis for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orest fire fighting are required in order to increase EU preparedness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FISTO projec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ms to raise preparedness level through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icient and standardized training protoco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ed by a representative network of Mediterranean stakehold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ew opportunities regard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oper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Mediterranean training centres - establishing training programmes - sessions on the organization, protocols and procedures applied in the neighbouring countries - improv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ness on cross-border fire f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8DF8C-CB60-4E01-A305-566D668C7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480" y="8254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4.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74640" y="1896840"/>
            <a:ext cx="8367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detail the ma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the project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hare 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trategies, tactics and methods applied in each of the Mediterranean Countries involved in the project - future involvement of other EU count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include in the training programs specific sessions on the organization, protocols and procedures applied in the neighbouring countries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 the effectiveness on crossborder fire figh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velop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ised and common terminolog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improve the communication efficacy in joi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re fighting oper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fin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ised operational training skil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orest Fire Oper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ment of an organiz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representatives and agencies of different countri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manage and monitor the skills and competence certification methods and processes; define and maintain agreed minimum standards of skills and abilities in forest fire fighting training, applied in all European countries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C1EC9-B99D-4C55-B3C3-E916BA762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68868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5. Expected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74640" y="144936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in expected results will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dac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uidelines and repor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organization, strategies and methods applied in each Country. These documents will contain the main elements to be included in the training session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ressed to international cooper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s in fire-fighting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which can be applied in all partners Count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s for European supranational qualifications of European Forest Fire Operat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FoF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 of an European organization (Network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the aims of develop and guarantee the international standard assessment of FoFO skill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an international pilot training cour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ncluding test of the skills assess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1AFE8-7535-43D4-B46A-656ABE45B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547560"/>
            <a:ext cx="83962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6. Deliverables and deadlines/1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F1AD9-FF52-4066-A47A-FF1418E9E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38040" y="1211400"/>
          <a:ext cx="8566200" cy="5248080"/>
        </p:xfrm>
        <a:graphic>
          <a:graphicData uri="http://schemas.openxmlformats.org/drawingml/2006/table">
            <a:tbl>
              <a:tblPr/>
              <a:tblGrid>
                <a:gridCol w="1077840"/>
                <a:gridCol w="6377040"/>
                <a:gridCol w="1111320"/>
              </a:tblGrid>
              <a:tr h="318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ables Li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adline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on and Project Management (M0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34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es of kick-o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 Agre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es of Opening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1-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es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6-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1-F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6-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project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terranean Forest Fire Fighting: State of the Art (M1 - M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81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B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report: national procedures and organisation in forest fire figh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B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lines redaction: Similiraties and differences between EU Mediterranean Countries in Forest Fire Fighting: a challenge for improvement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ards European procedures for Forest Fire Fighting: developing common terminology and good practices sharing and agreement (M6 - M1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88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st Fires multilingual glo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f the technical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pean procedure for forest fire figh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0C1D4-05A0-404C-B6E8-DE3B8F654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47200"/>
            <a:ext cx="8396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6. Deliverables and deadlines/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9520" y="1287360"/>
          <a:ext cx="8424720" cy="5402520"/>
        </p:xfrm>
        <a:graphic>
          <a:graphicData uri="http://schemas.openxmlformats.org/drawingml/2006/table">
            <a:tbl>
              <a:tblPr/>
              <a:tblGrid>
                <a:gridCol w="925560"/>
                <a:gridCol w="6486480"/>
                <a:gridCol w="1012680"/>
              </a:tblGrid>
              <a:tr h="5176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creation and procedures implementation for transanational cooperation (M6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585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the "European Forest fire fighting skills counc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 of rights and duties between Countries aimed at efficient cross-border collabor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n the pilot exercise on cross-border forest fires (practical meetin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program standardisation and implementation (M10 - M1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603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and shared list of train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ised scoresheets for the evaluation and the awarding of the European Forest Fire Operators (FoFOs) after training cour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f the pilot training, with the designation of the firsts FoFOs (three for each Partner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 and dissemination (M0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 creation, maintenance and continuous up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/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tion of project resul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ation and dispatching of Leyman's report to the Civil Protection Authorities of all EU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n dissemination activi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21:12Z</dcterms:created>
  <dc:creator>susanna</dc:creator>
  <dc:description/>
  <dc:language>en-US</dc:language>
  <cp:lastModifiedBy>Riccardo Castellini</cp:lastModifiedBy>
  <cp:lastPrinted>2016-10-21T19:33:34Z</cp:lastPrinted>
  <dcterms:modified xsi:type="dcterms:W3CDTF">2017-02-22T10:43:38Z</dcterms:modified>
  <cp:revision>523</cp:revision>
  <dc:subject/>
  <dc:title>Presentazione di PowerPoint</dc:title>
</cp:coreProperties>
</file>